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A8E-2543-462D-8D93-27ADC557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75D-AFBA-44A2-B5B5-45A25F35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56556-C720-44B1-BEB8-C02D945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80513-FF17-419A-967F-CD4ABA71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9440F-CD32-4D71-A4F6-3F38A2C8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93020-59D1-4C0F-A55E-A59CF428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1F78F-6321-4F60-A084-F3F783F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E3309-EFF2-43BE-8D40-4D57C6F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95257-D8C9-40FC-9408-91517FDD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0033F-8B69-481D-B67F-2474C838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5B184-0337-4FAA-8E0C-E6E8CE2B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007F2-0920-4ADC-B721-389BDA35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92D-962A-4490-997D-D1504E77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88531-1766-4D4A-910D-F44E630B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50372-2F62-47EE-887B-B2A326E9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7398B-9FFF-405D-A5F3-9A55C5BF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622BC-450F-4A15-B30E-3A883EDA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A8CE0-BF0E-4017-B48B-BB7C7CAC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015C4-FA0D-408A-9A90-7F295C5B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F3156-8EDE-44F6-B9E7-26746FCA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18452-5948-4D5B-BC94-492B73F8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895E3-4331-47E8-B3B6-4DB718F3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9A359-0C67-40DD-8F47-0895A47A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793-1842-4295-8EBE-D11DB0CD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70505-66F4-4E47-ABB9-08F676AF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A3C35-9821-49BE-81CA-F316D1FD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7D5C2-1A06-4EED-83ED-0E9B7309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0D0CA-2BD6-46C5-AF2A-D85A60F4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0A4F2-DAC3-4B40-87A6-9C91216F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508A3-3CD6-45B4-A41D-99B53B7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63436-175E-436E-A7DF-1DE8DAFB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695C4-7E02-4648-8F94-F7E952D5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EEF80-DD86-4639-AFC2-E27E0E2F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3CAD4-36DB-4530-AE18-6BAC7B20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DDC8-FBC6-4C96-8256-441A0C0B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1386B-7F0B-4243-8EF8-0B6B9DBB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35477-CEC0-4628-9ABE-5CB538FE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461BB-26F4-420D-B6C2-07F52BE9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B372C-9B63-4B7B-87E5-8DA5DAA7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9D54E-4AFD-4AD2-A3A3-EC683A4C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646B4-790C-4296-864E-A731B56F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8A021-7C90-490C-BF08-1678DB01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DF74C-7F47-44AD-B3D0-FDACC009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51179-B355-4F2F-B784-C6C0A5CD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3A153-0425-41A2-B29B-30247CB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690C-C191-473E-AF03-283AE9D6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241BB-84C9-42A0-A5C2-3C52610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41484-EB1F-41B0-B690-D0F1CF8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AA1EA-8F4E-4F74-9FE0-B4A3E43E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3104D-3DAE-42EE-BDAF-2A3B4B9E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5F48D-8CB7-4956-A6D3-84264A4F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F2189-25E9-49B0-B847-746D1DC6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9B9A4-A771-488A-A200-01FB964E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B8F19-52AC-40E5-8171-85671088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C0BA3-F9F8-4DD6-95BC-37BF3BD2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46F5F-9792-426D-AA60-C137EF1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F344-0F19-427E-9AAB-EA95F33E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C2F47-C50D-4546-B6BB-934FBFCF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17F30-CB28-477C-9E75-4ACD442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9B2D0-CFA6-4ABA-B2FE-88F27C3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F4C0C-0A90-47EE-A30D-6AEE874C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8C5C8-29E6-4AF0-B378-4A175B5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1D7E5-26FC-4540-993B-C4316FAB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07F64-26B3-49EA-8804-6E08B4F4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E6B16-0976-4DBC-9B4C-C0857312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E1B7A-F001-40F3-898B-21C18F18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57445-7EC3-41A4-B827-1811F416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A464-5725-42A7-9BE2-388D3E73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D3623-E40D-44CE-AA0A-F9D03757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5563A-085F-494F-9E98-C3B6FB68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539B9-8EA1-4503-83DB-B5EEB6C6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17626-D46C-4C62-92B9-5CB5BE66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F8E19-3F10-4748-B2A4-9B37E88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C2F93-4E1A-4AFB-B88F-ADBED64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310A9-84FC-43BB-8B04-45D5675A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951EE-821E-4C78-A4D5-081DBD28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CD986-E0FA-469F-894D-D0F8B922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0CD98-6884-49F3-AC9D-135F331C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7D36-5DEE-4144-9900-E74EF6EF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FBB7C-43B7-4AA2-AA84-1D9C96FF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23E81-6B47-4609-BEF0-56D643F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11F4D-6221-4944-B6F5-DF50B1E5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6FF53-FF39-4DF9-B84C-06ADB664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292E4-48E1-4245-941D-F9BB1DA1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5F6C0-B518-41B5-9131-BA3BB926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45D82-A24B-4D0D-BAB8-C48656A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8E196-6569-46F8-A24F-63FBA0DA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C2B50-246B-4C0D-8985-A5CCB84B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CF329-BB42-448E-8920-7E584CB4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00D5-14DE-43AF-B694-2C4E1EDB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2398E-BFA9-4ADC-80EB-3A35974D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2CC17-5CA7-449B-81AA-3671A635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7EEBE8-0D0B-4CA3-8B61-2364894E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7298F-92AB-43E4-81C9-A00F74C0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29EA9-5CE4-4F6C-9787-19F7C152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EE3E4-5373-44BB-8CC4-6A458557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49612-1830-4F49-975E-74B60C1F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8326C-7743-4BCB-975D-D667CA74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F789A-3B7D-4DFB-B12D-2E04AA7A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2B657-6C59-4870-9355-7A91B90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946C-9A4E-454B-B094-30029FFD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93295-857A-41DF-955B-468FF3F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A6FEC-2158-4FED-98A5-FB9AC685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AE9CE-2A70-4B68-81AC-FD7F3221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975ED-BA49-4F61-9B5C-0D6EA521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ACE65-444D-4FCC-8834-AE8BC97E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42302-F655-4479-80AA-192F1CB8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0A326-1E5F-4C7A-81A1-7379585D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A36AD-AEDE-4FD5-A67C-635594C0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2EF21-EB49-45D3-9CB7-D8709505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B4AAF-9C24-46A2-B696-01AA0B28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5EF-90F4-4338-841E-6B13EC8A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437F-0F29-4CB4-8F3D-56C9C4CB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7B0D7-F793-49F3-8758-9C83EA0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53513-3539-4E7B-93AD-EE120D89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A3E538-7200-4A68-83E8-28DD165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09D807-AF47-4D00-B61B-6218BAEC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792E8-546D-4E1D-A21B-1871C691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70A8F-C6FE-4AE8-A9E6-885A47A5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006C1-D810-4125-AAEC-87B78894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CF893-3299-4E79-B080-7B825104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F29119-9C93-4940-B751-31B967A4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518D3-5F5A-4985-AC0D-39088790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8002-4236-4FEB-87EF-2CDC9C3E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84BEC-472A-4DC8-88CB-C6621601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07E45-4116-4670-A901-9DEBD92D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95A83-9C86-436B-BB32-0C06E642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6F50C7-749C-4FBF-A6E0-0C272C5D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25EFE-0D8E-4A60-9F26-9771A865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3D519F-18B4-43AC-9326-60C1D847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111E6E-504E-4E45-985C-9005D47E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56A24-3FA0-432E-B0B1-B035C5D4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8ADDD-0B35-4B0B-BA0B-A031FF8C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09C7C-BEB4-4969-B10D-6ECF1384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F335-1422-480F-A7F7-5FDACA80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B75A1-1E03-4CE8-B20C-F8AF2BA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1D811-42FC-4D43-BCD3-DA15C5F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EFDE8-EFFE-47A6-A88D-AC19EF45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CD790-4336-4E99-91B4-9DA175C7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94F28-D4E7-4BC3-A023-6FC1E2CD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835A4-5D5D-40F6-AF3E-47D30153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236831-6E29-45DF-A368-4A96D4AD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1FBAA-4FB8-43E4-9B8B-72A7C12C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9835E-0D2D-40D6-8694-567EDB48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30002-960A-4FF2-BCEA-9D466BEB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D9DC-0BA3-4739-B1B9-0DE38E20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47D611-64B5-4B72-8AE0-497DFC6E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718E4C-172F-4A2F-83DC-83163ABD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87385-438B-43C7-9CAE-B8F09428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12D4A-83FE-48CC-A252-85EE43FB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2A734-6C9A-4CD6-AFDB-17D1C249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068820-6B7C-48F6-BC24-5D7CE958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4E9BA-23BC-4B4B-A251-922962F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E603F4-AEA9-464E-9E35-7E3CC32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80136-8D1C-4F3C-8214-F1C9439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9D858-B65F-415A-92DA-9329192B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3468-EC78-4836-A9B4-AF86959A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51B3B-DC1C-48DA-A6A7-38BA6A3C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7CD17F-DE04-437A-A75E-25637E7F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CAA76-B0EC-4E7D-90FC-BD4681F8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984C9-E323-44AA-863D-53B97DC8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F0B6D-BD0B-4D85-A799-6304511A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084A7-AA2E-4D76-BA8F-76D538FC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F3BDE-743B-49FA-B1F0-4DDEB509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941D89-DD81-445B-A9DF-AA0E17F2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3A97A-FEF9-42E9-A362-C31E58E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BBDB15-B57C-44AE-851F-6CA31257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8C82-FA86-4858-88B4-46338659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9B12D8-8095-4E96-8FAF-F92053C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A3DDA-CEC2-4B92-9C5F-934926B9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2E2314-E237-4AC3-8AB4-D6C5CF04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CA17-A2AA-4BDD-A4D4-DE356434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6531-EFDE-43F3-9AFB-DBAA2F47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6168-B1E4-4C2C-ABC4-493BB137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1D67-391C-466C-B8EE-94F87369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CDA-C87B-4062-AFCD-FDE5F92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C082-CDF1-42FE-B727-4DA1FC2E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9C16-64DC-429A-9311-71576B36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77E63-CC95-46BF-B036-B405A490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2263-A498-4F51-A978-B64E17B3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9E01-A812-4C39-AA79-FFFCBFAB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1C5D-658A-4AC4-BE78-07D0729D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925F-8DF3-4FA0-8312-6F26AD18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C58D-B9A5-4CAF-905A-B571AA1E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A88B6-C099-49A0-AA7B-126BA7A9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617DB-65AE-4C14-942C-E88D0C2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40B-4EA8-4220-A3EE-8FE0AAA8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CA97-4DAE-43BE-9E40-75038699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49D8-C043-4BC7-BA4A-7AC169F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6D56-3AD7-4A53-BA96-B24C1C6C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23E6-F586-4E09-8A8E-01AE853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0AE8-ADC9-44CA-824B-6D8FAC67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9940-088C-4B4D-BEF2-BD679309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AC0BA-42D9-48E5-88B2-DAF4EACA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5065-0472-46B0-AF21-77EB6480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EBEC-5E95-4AE8-BE60-7943F8A9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4A8D-7519-4AE9-8D1E-04481769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636-FCD3-46CD-9AB1-B34D5FF9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A1EB-E80D-4A26-9349-40736EB3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4A95-DC50-41F2-BF6C-63469CD0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8D34-969F-4E40-948D-2A1E0D84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71B49-40DB-4A66-974C-96A3AEBC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017B1-BE1A-45E8-A213-175D3C8B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864C3-7D8C-4AE5-813C-9925EE17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6066-C9AB-4F79-8172-A4CD738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C5EA3-C574-44EC-8B93-D1E7AC12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ECBF-CE54-47C8-A5B4-72200EFB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8683-48A2-4069-B791-43A6ADAB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9B0-5F17-4F86-A8A8-18998C5D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7AE69-7067-4071-AF98-5DFF9DD2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CEE46-CFD7-455C-8FB5-197E9E57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16ACA-E9E9-4AD2-9768-2EE1CFA5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8FF7-0D86-4741-BE55-CE3AD561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FF96-B6EB-4DE7-9DC2-1239DDCA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C9055-F9C8-44EA-A476-270A634A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93B13-F4C3-4646-AA86-7D9E6A7F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3BA38-E930-4C25-899F-1623E79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6F858-B93F-49AD-B788-D1E485B9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686D2-27EB-403A-A07A-6C2F317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029-04FC-4696-951D-C87A71C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9F5F-63A3-49F5-A831-9F821A83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3426B-1E5D-4E45-ABFF-2A473420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ED60A-AC57-4E74-9A50-C4E0509C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76F17-1D90-4A7B-96B1-659B82A7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48A21-7CBD-4A8E-8A8D-3DD8D22A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1C5C9-88F9-43E2-9F7B-A306048A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A96A-EBD9-4A5A-BC91-0E712C18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E3270-7D90-4B51-AF87-08A2ED28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E4B50-A2CC-4C08-A8C2-6FF9821B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88F09-7B6C-421B-93C0-D23E3AC6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29F-B4C5-4894-A3A9-998187FC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D8A3F-BA40-48DF-B93C-D6CF9487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6A83-A28D-4BAD-93B9-A89DC5D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3E8F2-B40F-4A79-86A8-8F258905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6D7E-B3EF-4617-BB0E-4F077046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8479F-9441-4763-82E0-EEFE5121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31481-A281-47AA-80B1-62670037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2E77A-A0FB-4E5B-90D4-BB5F2D20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D251-4973-4AAB-A07C-0E3B5A3A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B2AC1-956C-4BDA-B89C-57C570F4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1D22C-49F8-47FD-84C9-403C4BB1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6DF-07CB-4D1A-90D1-813D409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CE074-1466-43CB-BE30-AF398196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8AC81-B098-4CB5-BD63-EE234CC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A88F6-3F02-49AE-8E25-8E25FA36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AB6B3-2508-4152-9C40-FDAE0D1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0F971-2A62-4A72-B425-C214C962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FC48F-D72F-42DA-97CB-4AAEBDBC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1790B-C3CB-4DA2-A44F-4BF99612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3D4B7-FA49-463D-AA53-7A16A81D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F562B-10FB-4011-881A-DE1A706D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D641F-263B-4D31-B9EF-24E36291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61C4-3C90-42A0-A8D5-EAE74ED273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91D9-E3C3-4642-8A36-AB482CC50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F57B-EC22-48C2-A28E-C2C0EEC59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A245-1008-4884-BC5D-3AD6EA0CDA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C050-0B36-4924-B757-E638696AA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B33D-E8FB-47EA-8D92-02F941AD7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5964-4072-4588-A721-2DF7926AD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9D08-A026-4E5E-B151-F66C80EA59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7EE2-7C19-4E6B-AEAB-E307E22AD3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9D6C-E2EA-4243-AF95-5173EF66DD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D93-83FD-437A-8AFA-FEA9179C83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2E5C-D25F-4E28-A138-0731DD4D4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B9EB-D992-4159-A7D8-A6B761CBD6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3C9-3156-4FC3-A147-FC64B405ED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02A5-54CB-4175-BAAB-618DF0B70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6B42-D024-44DD-9260-D36455E17B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2C95-4969-441C-B4DA-C675A7873D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4C20-E951-4FE7-A1A1-E2D3E0A174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ED18-6DDB-47BB-B453-A23D979B4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BE07-7F13-4779-B56A-A1BE0AF0F7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BF64-7489-4978-BD05-3987A6266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A377-A136-4756-8170-8426B1F2EB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1B3-7923-4954-A212-FF93F7A1E2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AB70-7AA2-480D-AA6E-2C901CE12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AAEC-B134-42A3-BA56-25C0A30162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851D-2C90-4FA5-9C4B-5E18C7DF2B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2561-677A-491A-882D-3378FC0E26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D6C5-4DCB-401E-ACFF-8DC524117D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A247-C095-47CB-B713-E0310CBAA7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CF28-DCBB-44B8-8EB4-A2AF29DA73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5C8E-4AC8-4CB8-B628-972EC4EED0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1A5-EF74-4C0C-B8D5-BA7176010C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1397-1038-4043-B1E7-EA17ADEA4E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FAB5-C547-4840-862A-3E32A72A14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70EE-7113-4BC1-A238-D004138728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FE74-3F56-4D90-9C50-977A6D11F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F32-89CE-43F6-A2C2-798A042C44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CAA7-8D28-4A35-907E-C383D141D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8ED9-7AFF-4492-A69B-4DE3476259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4CCA-F9F3-4178-B012-2113B8D684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80" descr=""/>
          <p:cNvPicPr/>
          <p:nvPr/>
        </p:nvPicPr>
        <p:blipFill>
          <a:blip r:embed="rId1"/>
          <a:stretch/>
        </p:blipFill>
        <p:spPr>
          <a:xfrm>
            <a:off x="1328760" y="2843280"/>
            <a:ext cx="64864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162000" y="380880"/>
            <a:ext cx="8820000" cy="60962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5435640" y="4105440"/>
            <a:ext cx="2952720" cy="331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1116000" y="4681440"/>
            <a:ext cx="2952720" cy="9082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1042920" y="5618160"/>
            <a:ext cx="5761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614520" y="1919160"/>
            <a:ext cx="7914960" cy="3019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5219640" y="2478240"/>
            <a:ext cx="3168720" cy="4982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3168720" cy="8650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55640" y="4033800"/>
            <a:ext cx="6121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7585" descr=""/>
          <p:cNvPicPr/>
          <p:nvPr/>
        </p:nvPicPr>
        <p:blipFill>
          <a:blip r:embed="rId1"/>
          <a:stretch/>
        </p:blipFill>
        <p:spPr>
          <a:xfrm>
            <a:off x="314280" y="1414440"/>
            <a:ext cx="8515440" cy="40291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3002040" y="229068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559560" y="227664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3174840" y="328464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732720" y="325584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3635280" y="501336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3635280" y="4451400"/>
            <a:ext cx="576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66561" descr=""/>
          <p:cNvPicPr/>
          <p:nvPr/>
        </p:nvPicPr>
        <p:blipFill>
          <a:blip r:embed="rId1"/>
          <a:stretch/>
        </p:blipFill>
        <p:spPr>
          <a:xfrm>
            <a:off x="666720" y="1052640"/>
            <a:ext cx="7810560" cy="222876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6562" descr=""/>
          <p:cNvPicPr/>
          <p:nvPr/>
        </p:nvPicPr>
        <p:blipFill>
          <a:blip r:embed="rId2"/>
          <a:stretch/>
        </p:blipFill>
        <p:spPr>
          <a:xfrm>
            <a:off x="1019160" y="3517920"/>
            <a:ext cx="7105680" cy="21430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4068720" y="1628640"/>
            <a:ext cx="863640" cy="498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7596360" y="1557360"/>
            <a:ext cx="863280" cy="498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4427640" y="227664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6"/>
          <a:stretch/>
        </p:blipFill>
        <p:spPr>
          <a:xfrm>
            <a:off x="7596360" y="2276640"/>
            <a:ext cx="863280" cy="4982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7"/>
          <a:stretch/>
        </p:blipFill>
        <p:spPr>
          <a:xfrm>
            <a:off x="3203640" y="400536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8"/>
          <a:stretch/>
        </p:blipFill>
        <p:spPr>
          <a:xfrm>
            <a:off x="7451640" y="400536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9"/>
          <a:stretch/>
        </p:blipFill>
        <p:spPr>
          <a:xfrm>
            <a:off x="2828880" y="4653000"/>
            <a:ext cx="863640" cy="4986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0"/>
          <a:stretch/>
        </p:blipFill>
        <p:spPr>
          <a:xfrm>
            <a:off x="7078680" y="4724280"/>
            <a:ext cx="8636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9" descr=""/>
          <p:cNvPicPr/>
          <p:nvPr/>
        </p:nvPicPr>
        <p:blipFill>
          <a:blip r:embed="rId1"/>
          <a:stretch/>
        </p:blipFill>
        <p:spPr>
          <a:xfrm>
            <a:off x="309600" y="866880"/>
            <a:ext cx="8524800" cy="5124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783560" y="5559480"/>
            <a:ext cx="431640" cy="372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769160" y="5084640"/>
            <a:ext cx="43200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1" descr=""/>
          <p:cNvPicPr/>
          <p:nvPr/>
        </p:nvPicPr>
        <p:blipFill>
          <a:blip r:embed="rId1"/>
          <a:stretch/>
        </p:blipFill>
        <p:spPr>
          <a:xfrm>
            <a:off x="700200" y="928800"/>
            <a:ext cx="7743600" cy="5000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529080" cy="934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539640" y="2622600"/>
            <a:ext cx="5761080" cy="934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1908000" y="479736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3132000" y="5329080"/>
            <a:ext cx="576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81160" y="1114560"/>
            <a:ext cx="8581680" cy="46288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3456000" cy="498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900000" y="3875040"/>
            <a:ext cx="3456000" cy="498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900000" y="4522680"/>
            <a:ext cx="3456000" cy="498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43214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3" descr=""/>
          <p:cNvPicPr/>
          <p:nvPr/>
        </p:nvPicPr>
        <p:blipFill>
          <a:blip r:embed="rId1"/>
          <a:stretch/>
        </p:blipFill>
        <p:spPr>
          <a:xfrm>
            <a:off x="285840" y="1400040"/>
            <a:ext cx="8572320" cy="4057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3708360" y="3241800"/>
            <a:ext cx="2087640" cy="1728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258920" y="3471840"/>
            <a:ext cx="3168720" cy="8938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116000" y="4522680"/>
            <a:ext cx="6912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1042920" y="1976400"/>
            <a:ext cx="7058160" cy="29052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3708360" y="2550960"/>
            <a:ext cx="2303640" cy="142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490760" y="2751120"/>
            <a:ext cx="2590560" cy="8938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403280" y="3817800"/>
            <a:ext cx="66247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662040" y="1728720"/>
            <a:ext cx="7819920" cy="3400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4643280" y="2305080"/>
            <a:ext cx="2233800" cy="331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116000" y="3068640"/>
            <a:ext cx="3168720" cy="936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1116000" y="4105440"/>
            <a:ext cx="69850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290520" y="1643040"/>
            <a:ext cx="8562960" cy="3571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258920" y="3343320"/>
            <a:ext cx="3529080" cy="877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73436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757080" y="1700280"/>
            <a:ext cx="7629840" cy="345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258920" y="2190600"/>
            <a:ext cx="7129440" cy="498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84360" y="2722680"/>
            <a:ext cx="7129440" cy="850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611280" y="3687840"/>
            <a:ext cx="7129440" cy="850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611280" y="4595760"/>
            <a:ext cx="71294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10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